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DA85-D78A-440D-AB64-A253270C9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749E-827B-4608-B5CE-2755379BA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95C1-96D9-4EE6-9529-3F5EE3D4F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B6C4-7C73-4570-8BFA-FEE3B8E6F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9A1B-FF35-4CA6-8222-217009A4F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3EDB-5413-41F9-889D-8DBABA12C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F6E5-AD88-4FC6-AD21-E44E6030E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8F95-495C-45D3-BBAA-BD1281744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5259-60EC-4F0A-A55C-3F2BCDC54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35C5-5ACE-4E37-A17D-3ECECFED8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9A70-9D4E-48CC-99FF-21930FACD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5D98-2F0B-4E36-95EA-258868AB4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96207C0-7C1C-4C24-A02C-5261D0F1CDDF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课  古代科技与思想文化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066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古老而神秘的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828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古代埃及的象形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286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古代两河流域的楔形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腓尼基人的字母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Tahoma"/>
              </a:rPr>
              <a:t>二、世界三大宗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佛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基督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9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463900"/>
                </a:solidFill>
                <a:latin typeface="Tahoma"/>
              </a:rPr>
              <a:t>、伊斯兰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62720" y="2819520"/>
            <a:ext cx="3276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80773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726840" y="2362320"/>
            <a:ext cx="1642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基督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990720"/>
            <a:ext cx="533520" cy="4724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838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时间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819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地点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8862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教义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029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经典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295280"/>
            <a:ext cx="5562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828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背景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65320" y="1219320"/>
            <a:ext cx="18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重要节日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0400" y="266688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</a:rPr>
              <a:t>圣诞节、复活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6629400" cy="454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5257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900"/>
                </a:solidFill>
                <a:latin typeface="Tahoma"/>
              </a:rPr>
              <a:t>基督教地下教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4473360" cy="534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61240" y="762120"/>
            <a:ext cx="850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Tahoma"/>
              </a:rPr>
              <a:t>基督教经典《圣经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808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基督教会的分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2920" y="2590920"/>
            <a:ext cx="72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Garamond"/>
                <a:ea typeface="楷体_GB2312"/>
              </a:rPr>
              <a:t>基督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057400"/>
            <a:ext cx="838080" cy="2819520"/>
          </a:xfrm>
          <a:custGeom>
            <a:avLst/>
            <a:gdLst>
              <a:gd name="textAreaLeft" fmla="*/ 535320 w 838080"/>
              <a:gd name="textAreaRight" fmla="*/ 838440 w 8380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1828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Garamond"/>
              </a:rPr>
              <a:t>东派：又称东正教，以希腊语为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Garamond"/>
              </a:rPr>
              <a:t>西派：又称天主教，以拉丁语为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648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900"/>
                </a:solidFill>
                <a:latin typeface="Garamond"/>
              </a:rPr>
              <a:t>新教：十六世纪在欧洲宗教改革中产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728280" y="2438280"/>
            <a:ext cx="1642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伊斯兰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066680"/>
            <a:ext cx="533520" cy="47246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838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时间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819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地点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8862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教义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029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经典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5562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828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背景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69880" y="1219320"/>
            <a:ext cx="18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重要节日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76560" y="2743200"/>
            <a:ext cx="64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开斋节、宰牲节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圣纪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4249800" cy="5639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18440" y="1371600"/>
            <a:ext cx="1277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伊斯兰教的创始人穆罕默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500960" cy="5019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14600" y="5715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900"/>
                </a:solidFill>
                <a:latin typeface="Tahoma"/>
              </a:rPr>
              <a:t>清真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5943600" cy="482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56386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900"/>
                </a:solidFill>
                <a:latin typeface="Tahoma"/>
              </a:rPr>
              <a:t>伊斯兰教的经典《古兰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95280" y="1447920"/>
            <a:ext cx="495324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楷体_GB2312"/>
              </a:rPr>
              <a:t>思考：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403848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900"/>
                </a:solidFill>
                <a:latin typeface="Garamond"/>
                <a:ea typeface="楷体_GB2312"/>
              </a:rPr>
              <a:t>三大宗教为什么能够广泛的传播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52280"/>
            <a:ext cx="86868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象形文字：</a:t>
            </a: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古代埃及人在公元前</a:t>
            </a: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3000  </a:t>
            </a: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多年，已使用了象形文字。这种文字是世界上最古老的文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Tahoma"/>
                <a:ea typeface="楷体_GB2312"/>
              </a:rPr>
              <a:t>由于它是用符号把客观物体的形象描摹下来的一种文字，即所谓“画成其物”，所以我们习惯上把它称为象形文字。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楷体_GB2312"/>
              </a:rPr>
              <a:t>它对以后的字母文字产生了重要影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6094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三大宗教可以广泛传播，成为世界性宗教的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71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、它们的基本教义迎合了当时身处苦难的劳动人民的内心需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463900"/>
                </a:solidFill>
                <a:latin typeface="Garamond"/>
                <a:ea typeface="楷体_GB2312"/>
              </a:rPr>
              <a:t>、统治者对宗教的利用和扶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6520" y="228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900"/>
                </a:solidFill>
                <a:latin typeface="Garamond"/>
              </a:rPr>
              <a:t>课堂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1430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古代埃及人曾创造了世界上最古老的文字之一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A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象形文字              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B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楔形文字  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C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阿拉伯数字          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D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腓尼基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35268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世界三大宗教教义宣扬的共同点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A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众生平等    </a:t>
            </a: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B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耶稣是人世间的救世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C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要求人民忍受苦难，顺从命运安排，放  弃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900"/>
                </a:solidFill>
                <a:latin typeface="Garamond"/>
              </a:rPr>
              <a:t>D</a:t>
            </a:r>
            <a:r>
              <a:rPr b="0" lang="zh-CN" sz="3200" spc="-1" strike="noStrike">
                <a:solidFill>
                  <a:srgbClr val="463900"/>
                </a:solidFill>
                <a:latin typeface="Garamond"/>
              </a:rPr>
              <a:t>、宣扬人死后能升入天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96080" y="32767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594360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981080" cy="3429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352680" y="4343400"/>
            <a:ext cx="5410440" cy="220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2209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99072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Garamond"/>
                <a:ea typeface="楷体_GB2312"/>
              </a:rPr>
              <a:t>楔形文字：</a:t>
            </a:r>
            <a:r>
              <a:rPr b="1" lang="zh-CN" sz="4800" spc="-1" strike="noStrike">
                <a:solidFill>
                  <a:srgbClr val="463900"/>
                </a:solidFill>
                <a:latin typeface="Garamond"/>
                <a:ea typeface="楷体_GB2312"/>
              </a:rPr>
              <a:t>两河流域的苏美尔人用削尖的芦苇做笔，把文字刻写在泥坯上，然后把泥坯烘干，成为泥版。这种刻在泥版上的文字因它的形状成尖劈形，所以被称为“楔形文字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533840" cy="6172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61200" y="45720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古代西亚的楔形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72200" y="1143000"/>
            <a:ext cx="2619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6095880" cy="385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66880" y="5410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楔形文字泥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6705720" cy="466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952680" y="685800"/>
            <a:ext cx="1826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早期字母演进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8120" y="5715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为以后欧洲的字母文字奠定了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726840" y="281952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楷体_GB2312"/>
              </a:rPr>
              <a:t>佛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990720"/>
            <a:ext cx="685800" cy="47242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838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时间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8195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地点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862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教义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5029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外传</a:t>
            </a:r>
            <a:r>
              <a:rPr b="1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716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1828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900"/>
                </a:solidFill>
                <a:latin typeface="Garamond"/>
              </a:rPr>
              <a:t>背景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69880" y="1219320"/>
            <a:ext cx="185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重要节日</a:t>
            </a:r>
            <a:r>
              <a:rPr b="0" lang="zh-CN" sz="4400" spc="-1" strike="noStrike">
                <a:solidFill>
                  <a:srgbClr val="000000"/>
                </a:solidFill>
                <a:latin typeface="Garamond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9000" y="2362320"/>
            <a:ext cx="6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浴佛节、成道节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涅盘节、传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4098960" cy="5767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237720" y="990720"/>
            <a:ext cx="1277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463900"/>
                </a:solidFill>
                <a:latin typeface="Tahoma"/>
              </a:rPr>
              <a:t>佛祖释迦牟尼塑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8:16:50Z</dcterms:created>
  <dc:creator/>
  <dc:description/>
  <dc:language>en-US</dc:language>
  <cp:lastModifiedBy>LXY</cp:lastModifiedBy>
  <dcterms:modified xsi:type="dcterms:W3CDTF">2013-12-25T09:38:5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